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8310-33C4-459B-9D38-E7E675B9D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34E9-F7B8-475E-BF62-71526C8C5D0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906B-9A6B-4A19-A114-1DE0E586FC4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6F12-DD2C-408F-B1DB-746E4AE65E0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C8F5-A1D0-470D-B3D2-6F747DCB074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97A6-B970-4A01-B20D-A1E44E8BBB8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D9B4-C9BE-4DF6-863E-12164575C8C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67E1-DD4B-4F30-9855-9C9EA92A3FD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CC2D-36D6-4B63-BBF8-4C6360B813E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8212-1D30-49BF-B166-A05F495C23E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466B-D57D-4FD9-B713-8EB5E8A4E06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E4B3-1253-47AF-B0B8-424EFE20EEC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E64F-6FF4-444A-AF08-6257150C865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DF60-D0DB-4D37-B67E-D5E46EB6F29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F598-3CAF-4E3F-9789-A71A8ED35B1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403D-FD6A-4999-9893-9BE52DD1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1F6-43CF-4342-9C33-46C50546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8A3-28FE-406F-83A8-E519EF31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E2E-C7EF-4F1D-8E4F-79FF486C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A3ED-DB05-42CE-9A2C-E607DE7A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A683-9B2E-4C26-AFD5-9CD0D032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77A0-719E-469A-BD70-B4393088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B483-013E-451B-9E0F-C5ED839C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22AB-9810-4CC5-95EF-F2761703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19CC-9F86-4EF5-B33D-E50924F0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0DFB-A4B0-4A6D-9715-8BC0A004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BCE1-ABE3-473F-832B-2DB063FA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810C-7BBC-4DC1-81B3-CC266E62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992C-1DB5-4C6D-9512-0A88941D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549B-BD29-48B1-AA5A-8376D766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0BF6-CE12-47F4-802F-E37B465A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A977-098D-49CD-9173-28BD830B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841-3992-40F1-8BDE-6B433FCF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4F9-43DC-443D-916D-818F97E4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B69-5299-4F62-A073-F5F9F43B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934-E2DE-477C-BAEA-1AC6275C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BC9-C326-415E-802D-635564E4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D80-7A90-4D72-BE45-6435623E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EF6-1AF6-4C57-A9EB-74A035F4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46C7-1235-48F0-B59B-E84E0CB9A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001C-02E5-4365-B5F5-4FAF4289630B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ommunication/Grade/Email Session 3 of y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Attachments in eChalk Email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ry I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nd an email to your partn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ttach the document you wrote in the beginning of the sessi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n you receive your partner’s email in your inbox, how can you tell it has an attachment?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pen or save the file you’ve been sen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581280" y="4648320"/>
            <a:ext cx="60984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problems might teachers have sending and receiving attachments? (And how can you help them?)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can I support others in sending and receiving attachment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I support others in sending and receiving attachment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12164"/>
                </a:solidFill>
                <a:latin typeface="Arial"/>
              </a:rPr>
              <a:t>Today we will learn how to: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Use eChalk email to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end an attachmen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Open an attachmen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attachment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en might a student need an attachment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en might a teacher need an attachment?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12164"/>
                </a:solidFill>
                <a:latin typeface="Arial"/>
              </a:rPr>
              <a:t>To get ready for today: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Open a new Word documen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Answer this question: “What is your favorite part of being an iSquader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ave the document.  Be sure you know where you saved it!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ending an Attachmen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5867280" cy="2889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685800" y="2133720"/>
            <a:ext cx="2666880" cy="36828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1.  Go to Write Mail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3733920" y="2286000"/>
            <a:ext cx="2590560" cy="36828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2.  Address the email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3048120" y="3200400"/>
            <a:ext cx="2666880" cy="6426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3.  Click Attach Files (you can use either link)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1371600" y="5867280"/>
            <a:ext cx="571500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4.  Don’t forget to include a subject and message!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4" name="Picture 5" descr="C:\Program Files\Microsoft Office\MEDIA\OFFICE12\Bullets\BD21298_.gif"/>
          <p:cNvPicPr/>
          <p:nvPr/>
        </p:nvPicPr>
        <p:blipFill>
          <a:blip r:embed="rId2"/>
          <a:stretch/>
        </p:blipFill>
        <p:spPr>
          <a:xfrm rot="6512400">
            <a:off x="1260720" y="2678760"/>
            <a:ext cx="614520" cy="371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Program Files\Microsoft Office\MEDIA\OFFICE12\Bullets\BD21298_.gif"/>
          <p:cNvPicPr/>
          <p:nvPr/>
        </p:nvPicPr>
        <p:blipFill>
          <a:blip r:embed="rId3"/>
          <a:stretch/>
        </p:blipFill>
        <p:spPr>
          <a:xfrm rot="8346600">
            <a:off x="2614320" y="3661920"/>
            <a:ext cx="317520" cy="192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Program Files\Microsoft Office\MEDIA\OFFICE12\Bullets\BD21298_.gif"/>
          <p:cNvPicPr/>
          <p:nvPr/>
        </p:nvPicPr>
        <p:blipFill>
          <a:blip r:embed="rId4"/>
          <a:stretch/>
        </p:blipFill>
        <p:spPr>
          <a:xfrm rot="13665600">
            <a:off x="2582280" y="3184200"/>
            <a:ext cx="36684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57200" y="1725480"/>
            <a:ext cx="4476600" cy="3913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ending an Attachmen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5715000" y="4800600"/>
            <a:ext cx="3048120" cy="17398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12164"/>
                </a:solidFill>
                <a:latin typeface="Arial"/>
              </a:rPr>
              <a:t>*If you want to attach multiple files, repeat steps 1 &amp; 2 before step 3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Your attachments will be listed below the subject line in the write screen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0" name="Picture 5" descr="C:\Program Files\Microsoft Office\MEDIA\OFFICE12\Bullets\BD21298_.gif"/>
          <p:cNvPicPr/>
          <p:nvPr/>
        </p:nvPicPr>
        <p:blipFill>
          <a:blip r:embed="rId2"/>
          <a:stretch/>
        </p:blipFill>
        <p:spPr>
          <a:xfrm>
            <a:off x="1871640" y="5257800"/>
            <a:ext cx="614520" cy="371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Program Files\Microsoft Office\MEDIA\OFFICE12\Bullets\BD21298_.gif"/>
          <p:cNvPicPr/>
          <p:nvPr/>
        </p:nvPicPr>
        <p:blipFill>
          <a:blip r:embed="rId3"/>
          <a:stretch/>
        </p:blipFill>
        <p:spPr>
          <a:xfrm rot="12630000">
            <a:off x="1429920" y="3729960"/>
            <a:ext cx="701640" cy="423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Program Files\Microsoft Office\MEDIA\OFFICE12\Bullets\BD21298_.gif"/>
          <p:cNvPicPr/>
          <p:nvPr/>
        </p:nvPicPr>
        <p:blipFill>
          <a:blip r:embed="rId4"/>
          <a:stretch/>
        </p:blipFill>
        <p:spPr>
          <a:xfrm rot="7945800">
            <a:off x="3526560" y="2995200"/>
            <a:ext cx="366840" cy="2206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2362320" y="3962520"/>
            <a:ext cx="3657600" cy="6426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2.  Click attach. The title should appear on the list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2743200" y="5257800"/>
            <a:ext cx="2666880" cy="36828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3.  Click OK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038480" y="2362320"/>
            <a:ext cx="4800600" cy="6426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1.  Click Browse.  Find the location where you saved the attachment &amp; click ‘open.’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5257800" y="1752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164"/>
                </a:solidFill>
                <a:latin typeface="Arial"/>
              </a:rPr>
              <a:t>3 Steps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1219320" y="1676520"/>
            <a:ext cx="2666880" cy="91692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0ece6"/>
                </a:solidFill>
                <a:latin typeface="Arial"/>
              </a:rPr>
              <a:t>Use this button, if the attachment is stored in your digital locker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8" name="Picture 5" descr="C:\Program Files\Microsoft Office\MEDIA\OFFICE12\Bullets\BD21298_.gif"/>
          <p:cNvPicPr/>
          <p:nvPr/>
        </p:nvPicPr>
        <p:blipFill>
          <a:blip r:embed="rId5"/>
          <a:stretch/>
        </p:blipFill>
        <p:spPr>
          <a:xfrm rot="7945800">
            <a:off x="784440" y="2308680"/>
            <a:ext cx="366840" cy="2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6"/>
          <a:stretch/>
        </p:blipFill>
        <p:spPr>
          <a:xfrm>
            <a:off x="6477120" y="3048120"/>
            <a:ext cx="2290680" cy="1676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Program Files\Microsoft Office\MEDIA\OFFICE12\Bullets\BD21298_.gif"/>
          <p:cNvPicPr/>
          <p:nvPr/>
        </p:nvPicPr>
        <p:blipFill>
          <a:blip r:embed="rId7"/>
          <a:stretch/>
        </p:blipFill>
        <p:spPr>
          <a:xfrm rot="1912800">
            <a:off x="8059320" y="4117680"/>
            <a:ext cx="368280" cy="2206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8"/>
          <p:cNvSpPr/>
          <p:nvPr/>
        </p:nvSpPr>
        <p:spPr>
          <a:xfrm>
            <a:off x="1447920" y="6172200"/>
            <a:ext cx="419076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12164"/>
                </a:solidFill>
                <a:latin typeface="Arial"/>
              </a:rPr>
              <a:t>Finish writing and send the message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TextBox 19"/>
          <p:cNvSpPr/>
          <p:nvPr/>
        </p:nvSpPr>
        <p:spPr>
          <a:xfrm>
            <a:off x="533520" y="5715000"/>
            <a:ext cx="464796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12164"/>
                </a:solidFill>
                <a:latin typeface="Arial"/>
              </a:rPr>
              <a:t>An attachment cannot be larger than 15 MB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543280" cy="1762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pening an Attachmen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57200" y="1905120"/>
            <a:ext cx="3276720" cy="11912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d5c5"/>
                </a:solidFill>
                <a:latin typeface="Arial"/>
              </a:rPr>
              <a:t>Click on the attachment while viewing messag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85800" y="5486400"/>
            <a:ext cx="7772400" cy="8254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*REMEMBER: NEVER open an attachment that you do not recognize!  This is a common way to ‘catch’ a virus!*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7" name="Picture 5" descr="C:\Program Files\Microsoft Office\MEDIA\OFFICE12\Bullets\BD21298_.gif"/>
          <p:cNvPicPr/>
          <p:nvPr/>
        </p:nvPicPr>
        <p:blipFill>
          <a:blip r:embed="rId2"/>
          <a:stretch/>
        </p:blipFill>
        <p:spPr>
          <a:xfrm rot="1492200">
            <a:off x="2563560" y="4074840"/>
            <a:ext cx="6141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pening an Attachmen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4838760" cy="43434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3"/>
          <p:cNvSpPr/>
          <p:nvPr/>
        </p:nvSpPr>
        <p:spPr>
          <a:xfrm>
            <a:off x="457200" y="1981080"/>
            <a:ext cx="266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hould you open or save the attachment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f you save, where will you save the file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2</cp:lastModifiedBy>
  <dcterms:modified xsi:type="dcterms:W3CDTF">2007-03-03T15:48:18Z</dcterms:modified>
  <cp:revision>23</cp:revision>
  <dc:subject/>
  <dc:title>Workshop Title</dc:title>
</cp:coreProperties>
</file>